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2.wmf" ContentType="image/x-wmf"/>
  <Override PartName="/ppt/media/image50.wmf" ContentType="image/x-wmf"/>
  <Override PartName="/ppt/media/image28.png" ContentType="image/png"/>
  <Override PartName="/ppt/media/image48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3.wmf" ContentType="image/x-wmf"/>
  <Override PartName="/ppt/media/image33.wmf" ContentType="image/x-wmf"/>
  <Override PartName="/ppt/media/image26.wmf" ContentType="image/x-wmf"/>
  <Override PartName="/ppt/media/image14.wmf" ContentType="image/x-wmf"/>
  <Override PartName="/ppt/media/image32.wmf" ContentType="image/x-wmf"/>
  <Override PartName="/ppt/media/image69.wmf" ContentType="image/x-wmf"/>
  <Override PartName="/ppt/media/image15.png" ContentType="image/png"/>
  <Override PartName="/ppt/media/image55.wmf" ContentType="image/x-wmf"/>
  <Override PartName="/ppt/media/image57.wmf" ContentType="image/x-wmf"/>
  <Override PartName="/ppt/media/image17.png" ContentType="image/png"/>
  <Override PartName="/ppt/media/image20.wmf" ContentType="image/x-wmf"/>
  <Override PartName="/ppt/media/image63.png" ContentType="image/png"/>
  <Override PartName="/ppt/media/image21.wmf" ContentType="image/x-wmf"/>
  <Override PartName="/ppt/media/image60.png" ContentType="image/png"/>
  <Override PartName="/ppt/media/image58.wmf" ContentType="image/x-wmf"/>
  <Override PartName="/ppt/media/image22.png" ContentType="image/png"/>
  <Override PartName="/ppt/media/image68.wmf" ContentType="image/x-wmf"/>
  <Override PartName="/ppt/media/image31.wmf" ContentType="image/x-wmf"/>
  <Override PartName="/ppt/media/image24.wmf" ContentType="image/x-wmf"/>
  <Override PartName="/ppt/media/image67.png" ContentType="image/png"/>
  <Override PartName="/ppt/media/image65.wmf" ContentType="image/x-wmf"/>
  <Override PartName="/ppt/media/image27.wmf" ContentType="image/x-wmf"/>
  <Override PartName="/ppt/media/image64.wmf" ContentType="image/x-wmf"/>
  <Override PartName="/ppt/media/image62.png" ContentType="image/png"/>
  <Override PartName="/ppt/media/image23.wmf" ContentType="image/x-wmf"/>
  <Override PartName="/ppt/media/image61.png" ContentType="image/png"/>
  <Override PartName="/ppt/media/image25.wmf" ContentType="image/x-wmf"/>
  <Override PartName="/ppt/media/image66.wmf" ContentType="image/x-wmf"/>
  <Override PartName="/ppt/media/image59.png" ContentType="image/png"/>
  <Override PartName="/ppt/media/image16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29.png" ContentType="image/png"/>
  <Override PartName="/ppt/media/image51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EA4-EF62-454C-8D76-F5958B00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EF0-FE80-4694-B3A5-9E0FCCFE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FD4-B1C0-46CE-A79F-290B02A9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7DB-50B9-477F-A842-5590E3D4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500-4438-4D14-A6BE-48D4A5A0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F2B-65A8-4A82-9CBF-F831896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60D-0F4F-4FD8-962F-E2E1162F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3E0-CF7F-450A-9173-0A60DA41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95B-5ADB-427B-A617-7B423CED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20F-C6FB-44EF-ADA3-A020EE6C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896-A419-4973-9D0F-48654F19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F23-C0A9-41A3-AF0A-DD308C9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A2F4-8EE8-4BDD-903A-E1008299B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9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468360" y="6165720"/>
            <a:ext cx="829620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420840" y="404640"/>
            <a:ext cx="995040" cy="971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1628640" y="1125360"/>
            <a:ext cx="597564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4465440" y="43614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1"/>
          <a:stretch/>
        </p:blipFill>
        <p:spPr>
          <a:xfrm>
            <a:off x="179280" y="1063800"/>
            <a:ext cx="8785440" cy="3660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1547640" y="5013360"/>
            <a:ext cx="5950080" cy="1527120"/>
          </a:xfrm>
          <a:prstGeom prst="rect">
            <a:avLst/>
          </a:prstGeom>
          <a:ln w="0">
            <a:noFill/>
          </a:ln>
        </p:spPr>
      </p:pic>
      <p:sp>
        <p:nvSpPr>
          <p:cNvPr id="94" name="矩形 18"/>
          <p:cNvSpPr/>
          <p:nvPr/>
        </p:nvSpPr>
        <p:spPr>
          <a:xfrm>
            <a:off x="324000" y="1197000"/>
            <a:ext cx="4535280" cy="244800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5003640" y="1197000"/>
            <a:ext cx="3961080" cy="245592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1258920" y="3645000"/>
            <a:ext cx="287280" cy="21564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>
            <a:off x="2484000" y="3645000"/>
            <a:ext cx="3382920" cy="21564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 flipH="1">
            <a:off x="4427280" y="4653000"/>
            <a:ext cx="2160360" cy="10080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3"/>
          <p:cNvSpPr/>
          <p:nvPr/>
        </p:nvSpPr>
        <p:spPr>
          <a:xfrm>
            <a:off x="3492360" y="5661000"/>
            <a:ext cx="935280" cy="7286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4"/>
          <p:cNvSpPr/>
          <p:nvPr/>
        </p:nvSpPr>
        <p:spPr>
          <a:xfrm>
            <a:off x="6516720" y="3789360"/>
            <a:ext cx="934920" cy="93492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5"/>
          <p:cNvSpPr/>
          <p:nvPr/>
        </p:nvSpPr>
        <p:spPr>
          <a:xfrm>
            <a:off x="4553280" y="333360"/>
            <a:ext cx="3388680" cy="459720"/>
          </a:xfrm>
          <a:prstGeom prst="rect">
            <a:avLst/>
          </a:prstGeom>
          <a:solidFill>
            <a:srgbClr val="d9d9d9"/>
          </a:solidFill>
          <a:ln w="9360">
            <a:solidFill>
              <a:srgbClr val="cc33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矩阵具体运算过程，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8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2485800" cy="1081080"/>
          </a:xfrm>
          <a:prstGeom prst="rect">
            <a:avLst/>
          </a:prstGeom>
          <a:ln w="0">
            <a:noFill/>
          </a:ln>
        </p:spPr>
      </p:pic>
      <p:sp>
        <p:nvSpPr>
          <p:cNvPr id="103" name="下弧形箭头 37"/>
          <p:cNvSpPr/>
          <p:nvPr/>
        </p:nvSpPr>
        <p:spPr>
          <a:xfrm>
            <a:off x="1116000" y="4724280"/>
            <a:ext cx="3168720" cy="289080"/>
          </a:xfrm>
          <a:custGeom>
            <a:avLst/>
            <a:gdLst>
              <a:gd name="textAreaLeft" fmla="*/ 746280 w 3168720"/>
              <a:gd name="textAreaRight" fmla="*/ 2311200 w 316872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76" hR="21600" stAng="10800000" swAng="-5400000"/>
                <a:lnTo>
                  <a:pt x="10668" y="21600"/>
                </a:lnTo>
                <a:arcTo wR="10176" hR="21600" stAng="5400000" swAng="-3676396"/>
                <a:lnTo>
                  <a:pt x="21277" y="5400"/>
                </a:lnTo>
                <a:lnTo>
                  <a:pt x="20597" y="0"/>
                </a:lnTo>
                <a:lnTo>
                  <a:pt x="19271" y="5400"/>
                </a:lnTo>
                <a:lnTo>
                  <a:pt x="20028" y="5400"/>
                </a:lnTo>
                <a:arcTo wR="10176" hR="21600" stAng="1723604" swAng="3637234"/>
                <a:lnTo>
                  <a:pt x="10421" y="21594"/>
                </a:lnTo>
                <a:arcTo wR="10176" hR="21600" stAng="5439162" swAng="5360838"/>
                <a:close/>
              </a:path>
              <a:path fill="darkenLess" w="21600" h="21600">
                <a:moveTo>
                  <a:pt x="0" y="0"/>
                </a:moveTo>
                <a:arcTo wR="10176" hR="21600" stAng="10800000" swAng="-5400000"/>
                <a:lnTo>
                  <a:pt x="10668" y="21600"/>
                </a:lnTo>
                <a:arcTo wR="10176" hR="21600" stAng="5400000" swAng="39162"/>
                <a:lnTo>
                  <a:pt x="10421" y="21594"/>
                </a:lnTo>
                <a:arcTo wR="10176" hR="21600" stAng="5439162" swAng="5360838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39"/>
          <p:cNvSpPr/>
          <p:nvPr/>
        </p:nvSpPr>
        <p:spPr>
          <a:xfrm>
            <a:off x="324000" y="4724280"/>
            <a:ext cx="165564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40"/>
          <p:cNvSpPr/>
          <p:nvPr/>
        </p:nvSpPr>
        <p:spPr>
          <a:xfrm>
            <a:off x="2843280" y="4724280"/>
            <a:ext cx="28810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539640" y="4006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3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最小二乘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OLS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估计量的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696000" cy="54133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6407280" y="1268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58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539640" y="548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3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最小二乘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OLS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估计量的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5562720" cy="338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6227640" y="5229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5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928800" y="428760"/>
            <a:ext cx="42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4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可决系数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（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R</a:t>
            </a:r>
            <a:r>
              <a:rPr b="1" lang="en-US" sz="2800" spc="-1" strike="noStrike" baseline="30000">
                <a:solidFill>
                  <a:srgbClr val="990033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6286680" cy="5470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6156360" y="61009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6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2530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题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39640" y="184356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某商品需求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该商品价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消费者平均收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468360" y="5084640"/>
                <a:ext cx="61196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83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9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1" name="Picture 16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5400360" cy="3902040"/>
          </a:xfrm>
          <a:prstGeom prst="rect">
            <a:avLst/>
          </a:prstGeom>
          <a:ln w="0">
            <a:noFill/>
          </a:ln>
        </p:spPr>
      </p:pic>
      <p:sp>
        <p:nvSpPr>
          <p:cNvPr id="122" name="Line 17"/>
          <p:cNvSpPr/>
          <p:nvPr/>
        </p:nvSpPr>
        <p:spPr>
          <a:xfrm flipH="1">
            <a:off x="684360" y="2781360"/>
            <a:ext cx="2735280" cy="1584360"/>
          </a:xfrm>
          <a:prstGeom prst="line">
            <a:avLst/>
          </a:prstGeom>
          <a:ln w="2844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826920" y="2997360"/>
            <a:ext cx="2592720" cy="2232000"/>
          </a:xfrm>
          <a:prstGeom prst="line">
            <a:avLst/>
          </a:prstGeom>
          <a:ln w="2844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9"/>
          <p:cNvSpPr/>
          <p:nvPr/>
        </p:nvSpPr>
        <p:spPr>
          <a:xfrm flipH="1">
            <a:off x="755640" y="3213000"/>
            <a:ext cx="2664000" cy="2808360"/>
          </a:xfrm>
          <a:prstGeom prst="line">
            <a:avLst/>
          </a:prstGeom>
          <a:ln w="28440">
            <a:solidFill>
              <a:srgbClr val="99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7920000" cy="1054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6"/>
              <p:cNvSpPr txBox="1"/>
              <p:nvPr/>
            </p:nvSpPr>
            <p:spPr>
              <a:xfrm>
                <a:off x="611280" y="5877000"/>
                <a:ext cx="3382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9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8"/>
          <p:cNvSpPr/>
          <p:nvPr/>
        </p:nvSpPr>
        <p:spPr>
          <a:xfrm>
            <a:off x="6124680" y="59180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66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42960" y="2872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5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显著性检验与置信区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643960" cy="499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2"/>
          <a:stretch/>
        </p:blipFill>
        <p:spPr>
          <a:xfrm>
            <a:off x="4071960" y="4143240"/>
            <a:ext cx="2952720" cy="2235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665964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6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611280" y="369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5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显著性检验与置信区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4024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456000" cy="2352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6156360" y="59166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6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539640" y="227556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某商品需求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该商品价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消费者平均收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24000" y="333360"/>
            <a:ext cx="25304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题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tretch/>
        </p:blipFill>
        <p:spPr>
          <a:xfrm>
            <a:off x="3348000" y="333360"/>
            <a:ext cx="5400720" cy="3902040"/>
          </a:xfrm>
          <a:prstGeom prst="rect">
            <a:avLst/>
          </a:prstGeom>
          <a:ln w="0">
            <a:noFill/>
          </a:ln>
        </p:spPr>
      </p:pic>
      <p:sp>
        <p:nvSpPr>
          <p:cNvPr id="147" name="Line 15"/>
          <p:cNvSpPr/>
          <p:nvPr/>
        </p:nvSpPr>
        <p:spPr>
          <a:xfrm flipH="1">
            <a:off x="3563640" y="2349360"/>
            <a:ext cx="3598920" cy="215928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3492360" y="2637000"/>
            <a:ext cx="3670560" cy="2663640"/>
          </a:xfrm>
          <a:prstGeom prst="line">
            <a:avLst/>
          </a:prstGeom>
          <a:ln w="1260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7"/>
              <p:cNvSpPr txBox="1"/>
              <p:nvPr/>
            </p:nvSpPr>
            <p:spPr>
              <a:xfrm>
                <a:off x="684360" y="4272120"/>
                <a:ext cx="28810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5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0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9"/>
              <p:cNvSpPr txBox="1"/>
              <p:nvPr/>
            </p:nvSpPr>
            <p:spPr>
              <a:xfrm>
                <a:off x="684360" y="5013360"/>
                <a:ext cx="2736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0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1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Picture 19" descr=""/>
          <p:cNvPicPr/>
          <p:nvPr/>
        </p:nvPicPr>
        <p:blipFill>
          <a:blip r:embed="rId2"/>
          <a:stretch/>
        </p:blipFill>
        <p:spPr>
          <a:xfrm>
            <a:off x="5000760" y="4643280"/>
            <a:ext cx="339696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6143760" y="5716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67-7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H="1">
            <a:off x="3571920" y="3860640"/>
            <a:ext cx="2512800" cy="221148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0" descr=""/>
          <p:cNvPicPr/>
          <p:nvPr/>
        </p:nvPicPr>
        <p:blipFill>
          <a:blip r:embed="rId3"/>
          <a:stretch/>
        </p:blipFill>
        <p:spPr>
          <a:xfrm>
            <a:off x="642960" y="5715000"/>
            <a:ext cx="82328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9"/>
          <p:cNvSpPr/>
          <p:nvPr/>
        </p:nvSpPr>
        <p:spPr>
          <a:xfrm>
            <a:off x="611280" y="5140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5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显著性检验与置信区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93080" cy="4987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6084720" y="56926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7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826920" y="333360"/>
            <a:ext cx="25308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题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5857920" y="3429000"/>
            <a:ext cx="264312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置信区间上下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-8.36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2.36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2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置信区间上下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0.18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2.36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6"/>
          <p:cNvSpPr/>
          <p:nvPr/>
        </p:nvSpPr>
        <p:spPr>
          <a:xfrm>
            <a:off x="5643720" y="29282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单个回归系数的置信区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5308560" cy="3857760"/>
          </a:xfrm>
          <a:prstGeom prst="rect">
            <a:avLst/>
          </a:prstGeom>
          <a:ln w="0">
            <a:noFill/>
          </a:ln>
        </p:spPr>
      </p:pic>
      <p:sp>
        <p:nvSpPr>
          <p:cNvPr id="169" name="Line 34"/>
          <p:cNvSpPr/>
          <p:nvPr/>
        </p:nvSpPr>
        <p:spPr>
          <a:xfrm>
            <a:off x="2714760" y="3429000"/>
            <a:ext cx="3214440" cy="214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3"/>
          <p:cNvSpPr/>
          <p:nvPr/>
        </p:nvSpPr>
        <p:spPr>
          <a:xfrm>
            <a:off x="2714760" y="3643200"/>
            <a:ext cx="3214440" cy="7858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2786040" y="15714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某商品需求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X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该商品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X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消费者平均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"/>
          <p:cNvPicPr/>
          <p:nvPr/>
        </p:nvPicPr>
        <p:blipFill>
          <a:blip r:embed="rId2"/>
          <a:stretch/>
        </p:blipFill>
        <p:spPr>
          <a:xfrm>
            <a:off x="4929120" y="928800"/>
            <a:ext cx="3659400" cy="1000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5" descr=""/>
          <p:cNvPicPr/>
          <p:nvPr/>
        </p:nvPicPr>
        <p:blipFill>
          <a:blip r:embed="rId3"/>
          <a:stretch/>
        </p:blipFill>
        <p:spPr>
          <a:xfrm>
            <a:off x="5867280" y="5157720"/>
            <a:ext cx="2886120" cy="503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2965320" y="5661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70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第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章  多元线性回归模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619280" y="1415520"/>
            <a:ext cx="62658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元线性回归模型与假定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小二乘法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L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小二乘估计量的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决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显著性检验与置信区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预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测的评价指标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模过程中应注意的问题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案例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56360" y="5157720"/>
            <a:ext cx="1584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ile:li-3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ile:b1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ile:5line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500040" y="584280"/>
            <a:ext cx="8448840" cy="6130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3143160" y="1418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6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预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6143760" y="928800"/>
            <a:ext cx="2428920" cy="825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华文新魏"/>
                <a:ea typeface="华文新魏"/>
              </a:rPr>
              <a:t>不要求掌握推导，看懂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3780000" y="2592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某商品需求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该商品价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消费者平均收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900000" y="18900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题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1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250920" y="4437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样本内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0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点与样本外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华文新魏"/>
              </a:rPr>
              <a:t>点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预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7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3336840" cy="24177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0"/>
          <p:cNvSpPr/>
          <p:nvPr/>
        </p:nvSpPr>
        <p:spPr>
          <a:xfrm>
            <a:off x="4716360" y="580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74-79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4"/>
          <p:cNvSpPr/>
          <p:nvPr/>
        </p:nvSpPr>
        <p:spPr>
          <a:xfrm>
            <a:off x="3780000" y="38595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样本外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点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点预测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与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区间预测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5"/>
          <p:cNvSpPr/>
          <p:nvPr/>
        </p:nvSpPr>
        <p:spPr>
          <a:xfrm flipV="1">
            <a:off x="2050920" y="2565360"/>
            <a:ext cx="2592360" cy="15112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6"/>
          <p:cNvSpPr/>
          <p:nvPr/>
        </p:nvSpPr>
        <p:spPr>
          <a:xfrm>
            <a:off x="539640" y="5733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预测的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EViews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操作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7"/>
          <p:cNvSpPr/>
          <p:nvPr/>
        </p:nvSpPr>
        <p:spPr>
          <a:xfrm>
            <a:off x="6372360" y="3284640"/>
            <a:ext cx="21564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9"/>
          <p:cNvSpPr/>
          <p:nvPr/>
        </p:nvSpPr>
        <p:spPr>
          <a:xfrm>
            <a:off x="5724360" y="1844640"/>
            <a:ext cx="503280" cy="22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0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3240000" cy="3235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"/>
          <p:cNvPicPr/>
          <p:nvPr/>
        </p:nvPicPr>
        <p:blipFill>
          <a:blip r:embed="rId3"/>
          <a:stretch/>
        </p:blipFill>
        <p:spPr>
          <a:xfrm>
            <a:off x="7236000" y="1557360"/>
            <a:ext cx="14396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900000" y="2847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3.7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预测的评价指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6480360" cy="54118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6372360" y="5229360"/>
            <a:ext cx="223200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指预测值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900000" y="2847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3.7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预测的评价指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215200" cy="53179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6227640" y="1916280"/>
            <a:ext cx="223200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指预测值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6227640" y="4005360"/>
            <a:ext cx="223200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指预测值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41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预测评价指标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089920" cy="3892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755640" y="476280"/>
            <a:ext cx="253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题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4824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8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建模过程中应注意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508720" y="225360"/>
            <a:ext cx="3214440" cy="2289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357120" y="2714760"/>
            <a:ext cx="8512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1961640" y="8830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4)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养成看散点图的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1332000" y="1407960"/>
            <a:ext cx="2736720" cy="2021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789440" y="1382760"/>
            <a:ext cx="2735280" cy="20462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8"/>
          <p:cNvSpPr/>
          <p:nvPr/>
        </p:nvSpPr>
        <p:spPr>
          <a:xfrm>
            <a:off x="0" y="144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449600" y="3301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611280" y="3573000"/>
            <a:ext cx="78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中国移动电话用户数（亿户）序列       硫酸透明度（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与铁杂质含量（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的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3"/>
          <a:stretch/>
        </p:blipFill>
        <p:spPr>
          <a:xfrm>
            <a:off x="1258920" y="4049640"/>
            <a:ext cx="2884320" cy="2075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"/>
          <p:cNvPicPr/>
          <p:nvPr/>
        </p:nvPicPr>
        <p:blipFill>
          <a:blip r:embed="rId4"/>
          <a:stretch/>
        </p:blipFill>
        <p:spPr>
          <a:xfrm>
            <a:off x="4716360" y="4062240"/>
            <a:ext cx="2735280" cy="20307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3"/>
          <p:cNvSpPr/>
          <p:nvPr/>
        </p:nvSpPr>
        <p:spPr>
          <a:xfrm>
            <a:off x="0" y="15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0" y="528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619280" y="6165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D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DI               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市场用煤销售量季节性数据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82:1-1988:4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5329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3.8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建模过程中应注意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1144080" y="1195920"/>
            <a:ext cx="35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）谨慎对待离群值（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utlier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2879640" cy="21700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0" y="16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080" y="3277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2"/>
          <a:stretch/>
        </p:blipFill>
        <p:spPr>
          <a:xfrm>
            <a:off x="5979960" y="1773360"/>
            <a:ext cx="3056040" cy="2376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24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3.8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建模过程中应注意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3168720" cy="23209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6"/>
          <p:cNvSpPr/>
          <p:nvPr/>
        </p:nvSpPr>
        <p:spPr>
          <a:xfrm>
            <a:off x="468360" y="400500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322.19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元误输为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322.19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6290640" y="169956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死亡率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‰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4"/>
          <p:cNvSpPr/>
          <p:nvPr/>
        </p:nvSpPr>
        <p:spPr>
          <a:xfrm>
            <a:off x="3707280" y="4005360"/>
            <a:ext cx="205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1282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错输入为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1.2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9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81327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6375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3.8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建模过程中应注意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590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3.8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华文新魏"/>
              </a:rPr>
              <a:t>建模过程中应注意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99128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56275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第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章  多元线性回归模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900000" y="9799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元线性回归模型与假定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156360" y="61009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5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5292720" y="2708280"/>
            <a:ext cx="3456000" cy="936720"/>
          </a:xfrm>
          <a:prstGeom prst="wedgeRectCallout">
            <a:avLst>
              <a:gd name="adj1" fmla="val -69564"/>
              <a:gd name="adj2" fmla="val -128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经济意义：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t j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的重要解释变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代数意义：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t j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存在线性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几何意义：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是分布在多维平面附近的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69134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858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11)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利用回归模型预测时，解释变量的值最好不要离开样本范围太远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原因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根据预测公式离样本平均值越远，预测误差越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99680" y="285840"/>
            <a:ext cx="63579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3.8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建模过程中应注意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1"/>
          <a:stretch/>
        </p:blipFill>
        <p:spPr>
          <a:xfrm>
            <a:off x="642960" y="3143160"/>
            <a:ext cx="4000320" cy="2163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"/>
          <p:cNvPicPr/>
          <p:nvPr/>
        </p:nvPicPr>
        <p:blipFill>
          <a:blip r:embed="rId2"/>
          <a:stretch/>
        </p:blipFill>
        <p:spPr>
          <a:xfrm>
            <a:off x="4714920" y="3214800"/>
            <a:ext cx="2928960" cy="2119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3"/>
          <a:stretch/>
        </p:blipFill>
        <p:spPr>
          <a:xfrm>
            <a:off x="714240" y="5500800"/>
            <a:ext cx="7215480" cy="947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"/>
          <p:cNvPicPr/>
          <p:nvPr/>
        </p:nvPicPr>
        <p:blipFill>
          <a:blip r:embed="rId4"/>
          <a:stretch/>
        </p:blipFill>
        <p:spPr>
          <a:xfrm>
            <a:off x="1143000" y="1857240"/>
            <a:ext cx="58942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6048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3.8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华文新魏"/>
              </a:rPr>
              <a:t>建模过程中应注意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案例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：中国国债发行额模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:b1c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先分析中国国债发行额序列的特征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国债发行额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.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亿元（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国债发行额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60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亿元（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8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以当年价格计算，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年间（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1980-2001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）增长了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106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倍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均年增长率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.9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3816360" cy="29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4643280" y="3860640"/>
            <a:ext cx="3457800" cy="2286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6"/>
          <p:cNvSpPr/>
          <p:nvPr/>
        </p:nvSpPr>
        <p:spPr>
          <a:xfrm>
            <a:off x="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433400" y="348696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468360" y="1052640"/>
            <a:ext cx="84247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当前正处在社会主义市场经济逐步完善，宏观经济平稳运行的阶段。国债发行总量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B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亿元）应该与经济总规模，财政赤字的多少，每年的还本付息能力有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解释变量，国内生产总值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D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百亿元），财政赤字额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亿元），年还本付息额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PA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亿元），根据散点图建立中国国债发行额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B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亿元）模型如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DEBT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GDP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DEF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3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REPAY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u</a:t>
            </a:r>
            <a:r>
              <a:rPr b="1" i="1" lang="en-US" sz="24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2808360" cy="203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3348000" y="414972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4353480" y="33012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0" descr=""/>
          <p:cNvPicPr/>
          <p:nvPr/>
        </p:nvPicPr>
        <p:blipFill>
          <a:blip r:embed="rId3"/>
          <a:stretch/>
        </p:blipFill>
        <p:spPr>
          <a:xfrm>
            <a:off x="6227640" y="4149720"/>
            <a:ext cx="2737080" cy="19670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案例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：中国国债发行额模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:b1c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84320"/>
            <a:ext cx="7705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案例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中国国债发行额模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:b1c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086440" cy="38811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1187280" y="5300640"/>
            <a:ext cx="648036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DEBT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= 4.38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+0.34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GDP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+1.00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DEF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+0.88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REPAY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(0.2)  (2.1)            (26.6)         (17.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9933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= 0.9986, DW=2.12, </a:t>
            </a:r>
            <a:r>
              <a:rPr b="1" i="1" lang="en-US" sz="2000" spc="-1" strike="noStrike">
                <a:solidFill>
                  <a:srgbClr val="9933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=21, (1980-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7020000" y="5300640"/>
                <a:ext cx="255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4" name="Line 13"/>
          <p:cNvSpPr/>
          <p:nvPr/>
        </p:nvSpPr>
        <p:spPr>
          <a:xfrm flipH="1">
            <a:off x="5866920" y="3429000"/>
            <a:ext cx="289080" cy="244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4500720" y="3429000"/>
            <a:ext cx="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9"/>
          <p:cNvSpPr/>
          <p:nvPr/>
        </p:nvSpPr>
        <p:spPr>
          <a:xfrm>
            <a:off x="6300720" y="5732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（经济含义解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250920" y="134136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的国债发行额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BT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亿元）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B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4608.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测误差是  </a:t>
            </a:r>
            <a:r>
              <a:rPr b="1" i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                        = 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5"/>
              <p:cNvSpPr txBox="1"/>
              <p:nvPr/>
            </p:nvSpPr>
            <p:spPr>
              <a:xfrm>
                <a:off x="2195640" y="1773360"/>
                <a:ext cx="17874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60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0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Rectangle 7"/>
          <p:cNvSpPr/>
          <p:nvPr/>
        </p:nvSpPr>
        <p:spPr>
          <a:xfrm>
            <a:off x="179280" y="184320"/>
            <a:ext cx="8785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案例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：中国国债发行额模型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file:b1c4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新魏"/>
              </a:rPr>
              <a:t>）</a:t>
            </a: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6912000" cy="3191040"/>
          </a:xfrm>
          <a:prstGeom prst="rect">
            <a:avLst/>
          </a:prstGeom>
          <a:ln w="0">
            <a:noFill/>
          </a:ln>
        </p:spPr>
      </p:pic>
      <p:sp>
        <p:nvSpPr>
          <p:cNvPr id="271" name="Line 9"/>
          <p:cNvSpPr/>
          <p:nvPr/>
        </p:nvSpPr>
        <p:spPr>
          <a:xfrm>
            <a:off x="4716360" y="2276640"/>
            <a:ext cx="2303640" cy="259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 flipH="1">
            <a:off x="2626920" y="1700280"/>
            <a:ext cx="4537080" cy="25207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建模案例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：中国客运总量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模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file:5line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24000" y="1341360"/>
            <a:ext cx="864072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中国客运总量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亿人次）、总人口数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亿人），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均国内生产总值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千元）数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建立中国客运总量模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cc33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cc33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cc33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cc33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年底总人口数（亿人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均国内生产总值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千元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3600720" cy="2757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4643280" y="3860640"/>
            <a:ext cx="3456000" cy="26877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7"/>
          <p:cNvSpPr/>
          <p:nvPr/>
        </p:nvSpPr>
        <p:spPr>
          <a:xfrm>
            <a:off x="0" y="145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4465440" y="3291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257800" cy="374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建模案例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：中国客运总量模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file:5line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1763640" y="5157720"/>
            <a:ext cx="66247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-19.8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2.3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0.77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-2.0)    (2.6)         (4.2)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.997, DW=2.0, T=13, (1990-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8"/>
              <p:cNvSpPr txBox="1"/>
              <p:nvPr/>
            </p:nvSpPr>
            <p:spPr>
              <a:xfrm>
                <a:off x="5292720" y="5229360"/>
                <a:ext cx="20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4" name="矩形 6"/>
          <p:cNvSpPr/>
          <p:nvPr/>
        </p:nvSpPr>
        <p:spPr>
          <a:xfrm>
            <a:off x="5867280" y="515772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（经济含义解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建模案例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：中国客运总量</a:t>
            </a: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模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:5line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1724040" cy="4464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6804000" cy="31402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7"/>
          <p:cNvSpPr/>
          <p:nvPr/>
        </p:nvSpPr>
        <p:spPr>
          <a:xfrm>
            <a:off x="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684360" y="558864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样本外一期点预测                   样本内预测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02920" y="907560"/>
            <a:ext cx="317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章结束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4105080" cy="3864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900000" y="4437000"/>
                <a:ext cx="700092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8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9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0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456000" cy="2765520"/>
          </a:xfrm>
          <a:prstGeom prst="rect">
            <a:avLst/>
          </a:prstGeom>
          <a:ln w="0">
            <a:noFill/>
          </a:ln>
        </p:spPr>
      </p:pic>
      <p:sp>
        <p:nvSpPr>
          <p:cNvPr id="56" name="直接连接符 11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2"/>
          <p:cNvSpPr/>
          <p:nvPr/>
        </p:nvSpPr>
        <p:spPr>
          <a:xfrm flipV="1">
            <a:off x="4788000" y="189000"/>
            <a:ext cx="0" cy="3960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5"/>
          <p:cNvSpPr/>
          <p:nvPr/>
        </p:nvSpPr>
        <p:spPr>
          <a:xfrm>
            <a:off x="755640" y="332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3.1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多元线性回归模型与假定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083360" cy="561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6372360" y="198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7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826920" y="4006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2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最小二乘法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OLS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20000" cy="476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6643800" y="3571920"/>
            <a:ext cx="1533240" cy="2104920"/>
          </a:xfrm>
          <a:prstGeom prst="rect">
            <a:avLst/>
          </a:prstGeom>
          <a:ln w="0">
            <a:noFill/>
          </a:ln>
        </p:spPr>
      </p:pic>
      <p:sp>
        <p:nvSpPr>
          <p:cNvPr id="64" name="矩形 5"/>
          <p:cNvSpPr/>
          <p:nvPr/>
        </p:nvSpPr>
        <p:spPr>
          <a:xfrm>
            <a:off x="6283080" y="5786280"/>
            <a:ext cx="25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rge Udny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ul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71-195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6"/>
          <p:cNvSpPr/>
          <p:nvPr/>
        </p:nvSpPr>
        <p:spPr>
          <a:xfrm>
            <a:off x="4572000" y="1628640"/>
            <a:ext cx="1800360" cy="5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 flipH="1">
            <a:off x="3348000" y="2060640"/>
            <a:ext cx="122256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0"/>
          <p:cNvSpPr/>
          <p:nvPr/>
        </p:nvSpPr>
        <p:spPr>
          <a:xfrm>
            <a:off x="2411280" y="2421000"/>
            <a:ext cx="1008360" cy="360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3708360" y="60451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51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826920" y="4006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2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最小二乘法（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OLS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49016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8"/>
          <p:cNvSpPr/>
          <p:nvPr/>
        </p:nvSpPr>
        <p:spPr>
          <a:xfrm>
            <a:off x="1258920" y="2595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元线性回归模型离差的分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1332000" y="765000"/>
                <a:ext cx="5256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" name="Picture 27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5859720" cy="429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448000" cy="7081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0"/>
              <p:cNvSpPr txBox="1"/>
              <p:nvPr/>
            </p:nvSpPr>
            <p:spPr>
              <a:xfrm>
                <a:off x="1332000" y="1341360"/>
                <a:ext cx="7127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2530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例题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3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5257800" cy="38642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6300720" y="4941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Y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  某商品需求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X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该商品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X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消费者平均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6270480" cy="2492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1332000" y="5157720"/>
            <a:ext cx="345600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= 113.83 - 8.36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1 + 0.18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s-ES_tradnl" sz="2000" spc="-1" strike="noStrike">
                <a:solidFill>
                  <a:srgbClr val="990033"/>
                </a:solidFill>
                <a:latin typeface="Times New Roman"/>
              </a:rPr>
              <a:t>(4.0)    (-3.6)          (0.9)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0.88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26.4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4"/>
              <p:cNvSpPr txBox="1"/>
              <p:nvPr/>
            </p:nvSpPr>
            <p:spPr>
              <a:xfrm>
                <a:off x="1146240" y="5300640"/>
                <a:ext cx="2570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86" name="Picture 16" descr=""/>
          <p:cNvPicPr/>
          <p:nvPr/>
        </p:nvPicPr>
        <p:blipFill>
          <a:blip r:embed="rId3"/>
          <a:stretch/>
        </p:blipFill>
        <p:spPr>
          <a:xfrm>
            <a:off x="3348000" y="260280"/>
            <a:ext cx="5172120" cy="1873440"/>
          </a:xfrm>
          <a:prstGeom prst="rect">
            <a:avLst/>
          </a:prstGeom>
          <a:ln w="0">
            <a:noFill/>
          </a:ln>
        </p:spPr>
      </p:pic>
      <p:sp>
        <p:nvSpPr>
          <p:cNvPr id="87" name="Line 17"/>
          <p:cNvSpPr/>
          <p:nvPr/>
        </p:nvSpPr>
        <p:spPr>
          <a:xfrm>
            <a:off x="6443640" y="479736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6443640" y="2708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156360" y="61009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版第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54</a:t>
            </a:r>
            <a:r>
              <a:rPr b="1" lang="zh-CN" sz="1800" spc="-1" strike="noStrike">
                <a:solidFill>
                  <a:srgbClr val="990033"/>
                </a:solidFill>
                <a:latin typeface="Arial"/>
              </a:rPr>
              <a:t>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02:10:19Z</dcterms:created>
  <dc:creator>JUJUMAO</dc:creator>
  <dc:description/>
  <dc:language>en-US</dc:language>
  <cp:lastModifiedBy>HP</cp:lastModifiedBy>
  <dcterms:modified xsi:type="dcterms:W3CDTF">2015-05-27T22:12:48Z</dcterms:modified>
  <cp:revision>183</cp:revision>
  <dc:subject/>
  <dc:title>幻灯片 1</dc:title>
</cp:coreProperties>
</file>