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0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54.wmf" ContentType="image/x-wmf"/>
  <Override PartName="/ppt/media/image31.wmf" ContentType="image/x-wmf"/>
  <Override PartName="/ppt/media/image70.png" ContentType="image/png"/>
  <Override PartName="/ppt/media/image28.wmf" ContentType="image/x-wmf"/>
  <Override PartName="/ppt/media/image16.png" ContentType="image/png"/>
  <Override PartName="/ppt/media/image32.jpeg" ContentType="image/jpeg"/>
  <Override PartName="/ppt/media/image58.wmf" ContentType="image/x-wmf"/>
  <Override PartName="/ppt/media/image60.png" ContentType="image/png"/>
  <Override PartName="/ppt/media/image20.png" ContentType="image/png"/>
  <Override PartName="/ppt/media/image57.png" ContentType="image/png"/>
  <Override PartName="/ppt/media/image67.png" ContentType="image/png"/>
  <Override PartName="/ppt/media/image24.wmf" ContentType="image/x-wmf"/>
  <Override PartName="/ppt/media/image59.wmf" ContentType="image/x-wmf"/>
  <Override PartName="/ppt/media/image61.png" ContentType="image/png"/>
  <Override PartName="/ppt/media/image21.png" ContentType="image/png"/>
  <Override PartName="/ppt/media/image22.png" ContentType="image/png"/>
  <Override PartName="/ppt/media/image55.jpeg" ContentType="image/jpeg"/>
  <Override PartName="/ppt/media/image63.wmf" ContentType="image/x-wmf"/>
  <Override PartName="/ppt/media/image23.png" ContentType="image/png"/>
  <Override PartName="/ppt/media/image72.wmf" ContentType="image/x-wmf"/>
  <Override PartName="/ppt/media/image14.png" ContentType="image/png"/>
  <Override PartName="/ppt/media/image2.png" ContentType="image/png"/>
  <Override PartName="/ppt/media/image64.png" ContentType="image/png"/>
  <Override PartName="/ppt/media/image66.png" ContentType="image/png"/>
  <Override PartName="/ppt/media/image27.wmf" ContentType="image/x-wmf"/>
  <Override PartName="/ppt/media/image65.png" ContentType="image/png"/>
  <Override PartName="/ppt/media/image69.png" ContentType="image/png"/>
  <Override PartName="/ppt/media/image26.wmf" ContentType="image/x-wmf"/>
  <Override PartName="/ppt/media/image62.png" ContentType="image/png"/>
  <Override PartName="/ppt/media/image25.wmf" ContentType="image/x-wmf"/>
  <Override PartName="/ppt/media/image68.png" ContentType="image/png"/>
  <Override PartName="/ppt/media/image29.wmf" ContentType="image/x-wmf"/>
  <Override PartName="/ppt/media/image15.png" ContentType="image/png"/>
  <Override PartName="/ppt/media/image3.png" ContentType="image/png"/>
  <Override PartName="/ppt/media/image4.wmf" ContentType="image/x-wmf"/>
  <Override PartName="/ppt/media/image34.wmf" ContentType="image/x-wmf"/>
  <Override PartName="/ppt/media/image17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52.wmf" ContentType="image/x-wmf"/>
  <Override PartName="/ppt/media/image38.png" ContentType="image/png"/>
  <Override PartName="/ppt/media/image19.png" ContentType="image/png"/>
  <Override PartName="/ppt/media/image41.wmf" ContentType="image/x-wmf"/>
  <Override PartName="/ppt/media/image7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30.wmf" ContentType="image/x-wmf"/>
  <Override PartName="/ppt/media/image33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F1E-E8AD-417F-9302-DEC74935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B17-610E-4BA8-82B9-D227B93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A2B-2363-45ED-8329-1F06CF67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F90-1A33-4BBB-A1CB-F0EB61EF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878-73E7-4641-AE76-6552E2F8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A4D-77C4-415D-A55C-AD9824B9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845-3261-4EB6-BDA9-121EE924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462-5054-43CB-A596-745E4876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6E1-027F-42FC-B935-EA513CC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02D-45A7-43B7-95B7-0B9C7BED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421-8AFA-409B-90B6-3C0192C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BBC-A217-4FFE-B98E-46DB4F4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C9B7-6C63-40E7-A7AC-43F2913D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7.wm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908000" y="1263600"/>
            <a:ext cx="5543640" cy="391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329080" cy="384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6084720" y="2492280"/>
            <a:ext cx="2867040" cy="265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39640" y="2185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多项式方程模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华文新魏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11280" y="9799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平均成本与产品产量的关系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ile:li-4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042920" y="5445000"/>
            <a:ext cx="6121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5.1- 0.06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0.00006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2.5)  (-8.7)      (12.8)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97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684360" y="5300640"/>
                <a:ext cx="414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2"/>
          <p:cNvSpPr/>
          <p:nvPr/>
        </p:nvSpPr>
        <p:spPr>
          <a:xfrm>
            <a:off x="6300720" y="58705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95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双曲线函数模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56360" y="5414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241800" cy="252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294360" cy="2538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826920" y="4076640"/>
            <a:ext cx="748836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/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或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1/ 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= 1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= 1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得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* =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b x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* +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已变换为线性回归模型。双曲线函数还有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另一种表达方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= 1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b x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* +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式已变换成线性回归模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096960" y="1628640"/>
            <a:ext cx="154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991880" y="3141720"/>
            <a:ext cx="1700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250920" y="6195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炼钢厂钢包容积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与钢包使用次数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的关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:5nonli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15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44960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900000" y="3933720"/>
            <a:ext cx="756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线性模型并估计              建立对数模型并估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7.85 + 0.27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                        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6.16 + 1.83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9.6)   (5.7)                                (16.0)   (10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ES_tradnl" sz="2400" spc="-1" strike="noStrike">
                <a:solidFill>
                  <a:srgbClr val="c00000"/>
                </a:solidFill>
                <a:latin typeface="Times New Roman"/>
              </a:rPr>
              <a:t>R</a:t>
            </a:r>
            <a:r>
              <a:rPr b="1" lang="es-ES_tradnl" sz="24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 = 0.7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5                       </a:t>
            </a:r>
            <a:r>
              <a:rPr b="1" i="1" lang="es-ES_tradnl" sz="2400" spc="-1" strike="noStrike">
                <a:solidFill>
                  <a:srgbClr val="c00000"/>
                </a:solidFill>
                <a:latin typeface="Times New Roman"/>
              </a:rPr>
              <a:t>R</a:t>
            </a:r>
            <a:r>
              <a:rPr b="1" lang="es-ES_tradnl" sz="24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 = 0.89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456000" cy="2633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457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3168720" cy="2509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433400" y="32727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763640" y="385992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倒数线性化                                      双倒数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1258920" y="4365720"/>
            <a:ext cx="633744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倒数模型并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数据估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.081 + 0.1339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2.1)   (14.1)     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= 0.94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倒数模型的估计结果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50920" y="6195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炼钢厂钢包容积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与钢包使用次数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的关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:5nonli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311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826920" y="4028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数函数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940360" y="5797440"/>
            <a:ext cx="26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187280" y="3933720"/>
            <a:ext cx="720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Ln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0)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Ln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900000" y="4653000"/>
            <a:ext cx="633744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n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b x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变换成为线性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456000" cy="2690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529080" cy="273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5"/>
          <p:cNvSpPr/>
          <p:nvPr/>
        </p:nvSpPr>
        <p:spPr>
          <a:xfrm>
            <a:off x="1263240" y="14839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gt; 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368320" y="14839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 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3888000" cy="2979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440" y="3324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260720" y="5516280"/>
            <a:ext cx="64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个省市自治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年城镇居民人均食品支出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与人均收入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的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79280" y="474840"/>
            <a:ext cx="8209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：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28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个省市自治区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985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2005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年城镇居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      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人均食品支出（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food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与人均收入（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income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1767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324000" y="4046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长曲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gistic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模型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与教材中的模型稍异，称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曲线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372360" y="3852720"/>
            <a:ext cx="25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139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1440" y="3315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1"/>
          <a:stretch/>
        </p:blipFill>
        <p:spPr>
          <a:xfrm>
            <a:off x="395280" y="3541680"/>
            <a:ext cx="8420040" cy="295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384360" cy="26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3"/>
          <a:stretch/>
        </p:blipFill>
        <p:spPr>
          <a:xfrm>
            <a:off x="4284720" y="907920"/>
            <a:ext cx="3456000" cy="2670480"/>
          </a:xfrm>
          <a:prstGeom prst="rect">
            <a:avLst/>
          </a:prstGeom>
          <a:ln w="0">
            <a:noFill/>
          </a:ln>
        </p:spPr>
      </p:pic>
      <p:sp>
        <p:nvSpPr>
          <p:cNvPr id="149" name="Line 17"/>
          <p:cNvSpPr/>
          <p:nvPr/>
        </p:nvSpPr>
        <p:spPr>
          <a:xfrm>
            <a:off x="1258920" y="206064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270036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627280" y="2781360"/>
            <a:ext cx="5637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nb)/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332000" y="1844640"/>
            <a:ext cx="457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6300720" y="544572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324000" y="549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(4)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生长曲线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(logistic)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模型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与教材中的模型稍异，称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曲线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5" descr=""/>
          <p:cNvPicPr/>
          <p:nvPr/>
        </p:nvPicPr>
        <p:blipFill>
          <a:blip r:embed="rId1"/>
          <a:stretch/>
        </p:blipFill>
        <p:spPr>
          <a:xfrm>
            <a:off x="539640" y="1160640"/>
            <a:ext cx="82090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1"/>
          <p:cNvPicPr/>
          <p:nvPr/>
        </p:nvPicPr>
        <p:blipFill>
          <a:blip r:embed="rId1"/>
          <a:stretch/>
        </p:blipFill>
        <p:spPr>
          <a:xfrm>
            <a:off x="684360" y="1700280"/>
            <a:ext cx="7345080" cy="4591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32400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4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生长曲线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logistic)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模型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（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与教材中的模型稍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55640" y="112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案例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2003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日至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日中国内地非典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增疑似病例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数分析</a:t>
            </a:r>
            <a:r>
              <a:rPr b="0" lang="zh-CN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1763640" y="1413000"/>
            <a:ext cx="468000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4039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案例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2003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日至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日中国内地非典新增疑似病例数分析</a:t>
            </a:r>
            <a:r>
              <a:rPr b="0" lang="zh-CN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881080" cy="219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95092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440" y="3287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7201080" cy="3586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4"/>
          <a:stretch/>
        </p:blipFill>
        <p:spPr>
          <a:xfrm>
            <a:off x="5940360" y="852480"/>
            <a:ext cx="2808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4480" y="404280"/>
            <a:ext cx="78483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第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章  非线性回归模型的线性化</a:t>
            </a:r>
            <a:r>
              <a:rPr b="0" lang="zh-CN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87280" y="1525680"/>
            <a:ext cx="58327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项式函数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双曲线函数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数函数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长曲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logistic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华文新魏"/>
              </a:rPr>
              <a:t>（比教材中的模型复杂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指数函数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幂函数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99280" y="2781360"/>
            <a:ext cx="1439640" cy="2454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file:li-4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file:5nonli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file:5nonli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file: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file:li-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file:5nonli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80" y="3277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628640"/>
          <a:ext cx="2232000" cy="4937400"/>
        </p:xfrm>
        <a:graphic>
          <a:graphicData uri="http://schemas.openxmlformats.org/drawingml/2006/table">
            <a:tbl>
              <a:tblPr/>
              <a:tblGrid>
                <a:gridCol w="1022400"/>
                <a:gridCol w="1209600"/>
              </a:tblGrid>
              <a:tr h="622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存活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土埋月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Picture 51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03236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2"/>
          <p:cNvSpPr/>
          <p:nvPr/>
        </p:nvSpPr>
        <p:spPr>
          <a:xfrm>
            <a:off x="250920" y="243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钉螺存活率曲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:nonli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生长曲线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3"/>
          <p:cNvSpPr/>
          <p:nvPr/>
        </p:nvSpPr>
        <p:spPr>
          <a:xfrm>
            <a:off x="395280" y="9878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把一批钉螺埋入土中，以后每隔一个月取出部分钉螺，检测存活个数，计算存活率。数据见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3276720" y="4869000"/>
            <a:ext cx="53276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定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上渐近极限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1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因为已有观测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所以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好些。），得估计结果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4824360" cy="3256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250920" y="2134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钉螺存活率曲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:nonli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（生长曲线模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5545080" cy="222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3"/>
          <a:stretch/>
        </p:blipFill>
        <p:spPr>
          <a:xfrm>
            <a:off x="5940360" y="1125360"/>
            <a:ext cx="2879640" cy="21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"/>
          <p:cNvPicPr/>
          <p:nvPr/>
        </p:nvPicPr>
        <p:blipFill>
          <a:blip r:embed="rId4"/>
          <a:stretch/>
        </p:blipFill>
        <p:spPr>
          <a:xfrm>
            <a:off x="6156360" y="3541680"/>
            <a:ext cx="2519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392360" cy="3229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395280" y="6199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钉螺存活率曲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:nonli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（生长曲线模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033800" cy="3133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5146200" y="1556280"/>
            <a:ext cx="24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预测：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6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14720" y="20595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钉螺存活率样本值与拟合值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3"/>
              <p:cNvSpPr txBox="1"/>
              <p:nvPr/>
            </p:nvSpPr>
            <p:spPr>
              <a:xfrm>
                <a:off x="4643280" y="2133720"/>
                <a:ext cx="38894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53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755640" y="2188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(5) 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指数函数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940360" y="4933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3600720" cy="274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716360" y="852480"/>
            <a:ext cx="3527640" cy="2719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440" y="3320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116000" y="4149720"/>
            <a:ext cx="698328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式等号两侧同取自然对数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Lny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Lna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b x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* =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* +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b x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已变换成为线性关系。其中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随机误差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1"/>
              <p:cNvSpPr txBox="1"/>
              <p:nvPr/>
            </p:nvSpPr>
            <p:spPr>
              <a:xfrm>
                <a:off x="1763640" y="3573360"/>
                <a:ext cx="5761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 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68360" y="15274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硫酸厂生产的硫酸的透明度一直达不到优质指标。经分析透明度低与硫酸中金属杂质的含量太高有关。影响透明度的主要金属杂质是铁、钙、铅、镁等。通过正交试验的方法发现铁是影响硫酸透明度的最主要原因。测量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样本，得硫酸透明度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与铁杂质含量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的散点图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39640" y="114840"/>
            <a:ext cx="76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硫酸透明度与铁杂质含量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指数函数案例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l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2718000" cy="2016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2735280" cy="20332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4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4357080" y="32122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684360" y="4941720"/>
            <a:ext cx="770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21.59 - 0.9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069 - 2.37 (1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0.1)  (-5.7)                                       (18.6)  (-11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42, s.e. = 36.6, F= 32      R2 = 0.76, s.e. = 0.009, F= 14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684360" y="475560"/>
            <a:ext cx="6624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硫酸透明度与铁杂质含量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指数函数案例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l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2735280" cy="199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3276720" y="1895400"/>
            <a:ext cx="2663640" cy="19652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4417560" y="3287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39640" y="414972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-54.40 + 6524.83 (1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99 + 104.5 (1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7.2)  (16.3)                                                       (22.0)  (21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6, s.e. = 18.2, F= 266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91, s.e. = 0.22, F= 4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4716360" y="5805360"/>
                <a:ext cx="2016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11"/>
          <p:cNvSpPr/>
          <p:nvPr/>
        </p:nvSpPr>
        <p:spPr>
          <a:xfrm>
            <a:off x="4284720" y="5445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原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n(7.33) + 104.5 (1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6012000" y="1836720"/>
            <a:ext cx="273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826920" y="2188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(6)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幂函数模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全对数模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56000" cy="2646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2847600" y="141264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gt; 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920320" y="2420640"/>
            <a:ext cx="107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0&lt;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529080" cy="2738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5224680" y="105228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-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585040" y="1412640"/>
            <a:ext cx="9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-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738480" y="2204640"/>
            <a:ext cx="13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0 &gt;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gt; -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1"/>
              <p:cNvSpPr txBox="1"/>
              <p:nvPr/>
            </p:nvSpPr>
            <p:spPr>
              <a:xfrm>
                <a:off x="1187280" y="3629160"/>
                <a:ext cx="2016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Rectangle 12"/>
          <p:cNvSpPr/>
          <p:nvPr/>
        </p:nvSpPr>
        <p:spPr>
          <a:xfrm>
            <a:off x="324000" y="4292640"/>
            <a:ext cx="820728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不同值的图形分别见上图。对上式等号两侧同取对数，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Lny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Lna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b Lnx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n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上式表示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 =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 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b x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 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间已成线性关系。幂函数模型也称作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全对数模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6227640" y="49424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46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5578560" y="1571760"/>
            <a:ext cx="33019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1"/>
          <p:cNvSpPr/>
          <p:nvPr/>
        </p:nvSpPr>
        <p:spPr>
          <a:xfrm>
            <a:off x="5003640" y="6165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8360" y="3578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bb-Douglas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生产函数（二元幂函数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7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5224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5786280" y="1500120"/>
            <a:ext cx="3086280" cy="1714680"/>
          </a:xfrm>
          <a:prstGeom prst="rect">
            <a:avLst/>
          </a:prstGeom>
          <a:ln w="0">
            <a:noFill/>
          </a:ln>
        </p:spPr>
      </p:pic>
      <p:sp>
        <p:nvSpPr>
          <p:cNvPr id="245" name="矩形 5"/>
          <p:cNvSpPr/>
          <p:nvPr/>
        </p:nvSpPr>
        <p:spPr>
          <a:xfrm>
            <a:off x="5715000" y="328608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柯布（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W.Cobb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道格拉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ulH.Dougl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755640" y="6505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4.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天津市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DP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函数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教材第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95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页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,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ile:li-4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012000" y="5942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468360" y="2865600"/>
            <a:ext cx="3672000" cy="2819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3673440" cy="28033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>
            <a:off x="826920" y="1413000"/>
            <a:ext cx="7272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津市对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亿元）对对数的从业人员数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亿元）和对数的资金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亿元）散点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1"/>
          <p:cNvSpPr/>
          <p:nvPr/>
        </p:nvSpPr>
        <p:spPr>
          <a:xfrm>
            <a:off x="324000" y="2313720"/>
            <a:ext cx="835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候变量之间的关系是非线性的。虽然其形式是非线性的，但可以通过适当的变换，转化为线性模型，然后利用线性回归模型的估计与检验方法进行处理。称此类模型为可线性化的非线性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下非线性回归模型是无法用最小二乘法估计参数的。可采用非线性方法进行估计。估计过程非常复杂和困难，计算机的出现大大方便了非线性回归模型的估计。专用软件使这种计算变得非常容易。但本章不是介绍这类模型的估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074480" y="60919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下面介绍几种典型的可以做线性化处理的非线性模型。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98508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第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章  非线性回归模型的线性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1258920" y="4368960"/>
            <a:ext cx="31687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580000" y="1320840"/>
            <a:ext cx="3095640" cy="2252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539640" y="616572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2 + 1.47= 2.47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所以此生产函数属于规模报酬递增函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68360" y="333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4.2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天津市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DP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5940360" y="612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tretch/>
        </p:blipFill>
        <p:spPr>
          <a:xfrm>
            <a:off x="684360" y="4743360"/>
            <a:ext cx="4679640" cy="1352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5040360" cy="3641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4"/>
          <a:stretch/>
        </p:blipFill>
        <p:spPr>
          <a:xfrm>
            <a:off x="5867280" y="3573360"/>
            <a:ext cx="27529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539640" y="16992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非线性模型直接估计结果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0"/>
              <p:cNvSpPr txBox="1"/>
              <p:nvPr/>
            </p:nvSpPr>
            <p:spPr>
              <a:xfrm>
                <a:off x="1332000" y="1989000"/>
                <a:ext cx="21603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11"/>
          <p:cNvSpPr/>
          <p:nvPr/>
        </p:nvSpPr>
        <p:spPr>
          <a:xfrm>
            <a:off x="1835280" y="285264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851280" y="2780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Views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命令：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=C(1)*EXP(C(2)*(1/X))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5707080" y="3356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样本内预测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539640" y="1128240"/>
            <a:ext cx="80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案例</a:t>
            </a:r>
            <a:r>
              <a:rPr b="1" lang="en-US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硫酸透明度与铁杂质含量的关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指数函数案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le:cas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1258920" y="3356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样本点与指数拟合曲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9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"/>
          <p:cNvPicPr/>
          <p:nvPr/>
        </p:nvPicPr>
        <p:blipFill>
          <a:blip r:embed="rId2"/>
          <a:stretch/>
        </p:blipFill>
        <p:spPr>
          <a:xfrm>
            <a:off x="1071720" y="3714840"/>
            <a:ext cx="3447720" cy="2844720"/>
          </a:xfrm>
          <a:prstGeom prst="rect">
            <a:avLst/>
          </a:prstGeom>
          <a:ln w="0">
            <a:noFill/>
          </a:ln>
        </p:spPr>
      </p:pic>
      <p:sp>
        <p:nvSpPr>
          <p:cNvPr id="274" name="矩形 16"/>
          <p:cNvSpPr/>
          <p:nvPr/>
        </p:nvSpPr>
        <p:spPr>
          <a:xfrm>
            <a:off x="250920" y="476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不可线性化的非线性回归模型估计方法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不要求掌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3024000" cy="2232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468360" y="40752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综合案例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中国家用汽车拥有量决定因素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多元非线性回归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: nonli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468360" y="1341360"/>
            <a:ext cx="784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5-200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中国家用汽车拥有量以年增长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年均增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万辆的速度飞速增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建立中国家用汽车拥有量模型时，主要考虑如下因素：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城镇居民家庭人均可支配收入；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城镇总人口；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家用汽车产量；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公路交通完善程度；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家用汽车价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国产家用汽车价格与进口家用汽车价格差距较大，而且家用汽车种类很多，统计分种类的家用汽车销售价格与销售量非常困难，所以因素“家用汽车价格”暂且略去不用。定义变量名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中国家用汽车拥有量（万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城镇居民家庭人均可支配收入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全国城镇人口（亿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全国家用汽车产量（万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全国公路长度（万公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2"/>
          <p:cNvSpPr/>
          <p:nvPr/>
        </p:nvSpPr>
        <p:spPr>
          <a:xfrm>
            <a:off x="0" y="18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3"/>
          <p:cNvSpPr/>
          <p:nvPr/>
        </p:nvSpPr>
        <p:spPr>
          <a:xfrm>
            <a:off x="4465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94" descr=""/>
          <p:cNvPicPr/>
          <p:nvPr/>
        </p:nvPicPr>
        <p:blipFill>
          <a:blip r:embed="rId1"/>
          <a:stretch/>
        </p:blipFill>
        <p:spPr>
          <a:xfrm>
            <a:off x="684360" y="1374840"/>
            <a:ext cx="2950920" cy="2176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5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2952720" cy="2192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6" descr=""/>
          <p:cNvPicPr/>
          <p:nvPr/>
        </p:nvPicPr>
        <p:blipFill>
          <a:blip r:embed="rId3"/>
          <a:stretch/>
        </p:blipFill>
        <p:spPr>
          <a:xfrm>
            <a:off x="684360" y="3967200"/>
            <a:ext cx="2879640" cy="2135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7" descr=""/>
          <p:cNvPicPr/>
          <p:nvPr/>
        </p:nvPicPr>
        <p:blipFill>
          <a:blip r:embed="rId4"/>
          <a:stretch/>
        </p:blipFill>
        <p:spPr>
          <a:xfrm>
            <a:off x="4067280" y="3933720"/>
            <a:ext cx="2952720" cy="2197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99"/>
          <p:cNvSpPr/>
          <p:nvPr/>
        </p:nvSpPr>
        <p:spPr>
          <a:xfrm>
            <a:off x="2232360" y="3524040"/>
            <a:ext cx="34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轿车拥有量与人均可支配收入    轿车拥有量与全国城镇人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0"/>
          <p:cNvSpPr/>
          <p:nvPr/>
        </p:nvSpPr>
        <p:spPr>
          <a:xfrm>
            <a:off x="684360" y="6092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轿车拥有量与全国汽车产量             轿车拥有量与全国公路长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468360" y="40752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综合案例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中国家用汽车拥有量决定因素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多元非线性回归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: nonli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395280" y="3500280"/>
            <a:ext cx="8497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-925.66+ 0.0057X1+ 62.94 X2+ 0.41 X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7.73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5.7)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0.2)             (0.8)        (0.8)          (5.0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= 0.99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W=1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= 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相关系数阵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相关系数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上，但输出结果中，解释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归系数却通不过显著性检验。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这预示解释变量之间一定存在多重共线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611280" y="1482840"/>
            <a:ext cx="7705800" cy="1874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8"/>
          <p:cNvSpPr/>
          <p:nvPr/>
        </p:nvSpPr>
        <p:spPr>
          <a:xfrm>
            <a:off x="539640" y="40752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综合案例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中国家用汽车拥有量决定因素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多元非线性回归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: nonli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250920" y="1484280"/>
            <a:ext cx="8713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看散点图，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3,X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处理成线性关系，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1,X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处理成幂函数（抛物线）关系，得结果如下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Y = 317.19+ 0.00000326X1</a:t>
            </a:r>
            <a:r>
              <a:rPr b="1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- 363 X2+ 74.41 X2</a:t>
            </a:r>
            <a:r>
              <a:rPr b="1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+ 0.31X3+1.48X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2.9)        (4.4)             (-7.3)          (9.5)           (2.1)        (3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9991, DW=2.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= 1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每个变量都具有很高的显著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拟合优度也提高了，没有异方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也没有自相关。样本内拟合如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3168720" cy="23511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8"/>
          <p:cNvSpPr/>
          <p:nvPr/>
        </p:nvSpPr>
        <p:spPr>
          <a:xfrm>
            <a:off x="468360" y="40752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综合案例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中国家用汽车拥有量决定因素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多元非线性回归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: nonli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9"/>
          <p:cNvSpPr/>
          <p:nvPr/>
        </p:nvSpPr>
        <p:spPr>
          <a:xfrm>
            <a:off x="250920" y="17384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样本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期预测。预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929.56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预测误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e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计算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3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5583240" cy="261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4129200" cy="36716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5148360" y="2708280"/>
            <a:ext cx="203184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ews 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输出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516720" y="3716280"/>
            <a:ext cx="20304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ews 5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输出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4284360" y="2852640"/>
            <a:ext cx="86364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 flipH="1">
            <a:off x="6443640" y="4076640"/>
            <a:ext cx="5047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68360" y="40752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综合案例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中国家用汽车拥有量决定因素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多元非线性回归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: nonli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章结束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39640" y="3722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多项式函数模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华文新魏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84720" y="828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95280" y="1052640"/>
            <a:ext cx="835344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多项式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上式变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三元线性回归模型。经济学中的总成本与产品产量曲线与左图相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3529080" cy="244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3529080" cy="2505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116000" y="587700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)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87640" cy="278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39640" y="3722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多项式函数模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11280" y="12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总成本与产品产量的关系（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课本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91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:li-4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971640" y="4941720"/>
            <a:ext cx="48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867280" y="5653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042920" y="56743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估计结果见下页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3816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39640" y="2185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多项式函数模型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8360" y="9072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总成本与产品产量的关系（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课本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92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:li-4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187280" y="5157720"/>
            <a:ext cx="55454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434.7+ 85.7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0.02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0.0000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.8)    (12.0)      (-2.8)           (9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.9998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900000" y="5145120"/>
                <a:ext cx="408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Rectangle 10"/>
          <p:cNvSpPr/>
          <p:nvPr/>
        </p:nvSpPr>
        <p:spPr>
          <a:xfrm>
            <a:off x="6099120" y="60548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2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1906560" y="1557360"/>
            <a:ext cx="4681440" cy="3560760"/>
          </a:xfrm>
          <a:prstGeom prst="rect">
            <a:avLst/>
          </a:prstGeom>
          <a:ln w="0">
            <a:noFill/>
          </a:ln>
        </p:spPr>
      </p:pic>
      <p:sp>
        <p:nvSpPr>
          <p:cNvPr id="71" name="Line 12"/>
          <p:cNvSpPr/>
          <p:nvPr/>
        </p:nvSpPr>
        <p:spPr>
          <a:xfrm>
            <a:off x="4140360" y="3716280"/>
            <a:ext cx="115236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0920" y="1987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厦门市贷款总额与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GDP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的关系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~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76400" cy="43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788000" y="1289160"/>
            <a:ext cx="3240000" cy="239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324000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52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1268280"/>
            <a:ext cx="871380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散点图看，用多项式方程拟合比较合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24.5932 +1.635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0.002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0.0000027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2.0)        (11.3)               (-6.3)                    (7.9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.9986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395280" y="2205000"/>
                <a:ext cx="647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loan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3382920" cy="2546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250920" y="1987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：厦门市贷款总额与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GDP</a:t>
            </a:r>
            <a:r>
              <a:rPr b="1" lang="zh-CN" sz="3200" spc="-1" strike="noStrike">
                <a:solidFill>
                  <a:srgbClr val="990033"/>
                </a:solidFill>
                <a:latin typeface="华文新魏"/>
                <a:ea typeface="华文新魏"/>
              </a:rPr>
              <a:t>的关系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~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3384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12000" y="4581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教材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93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971640" y="1249200"/>
            <a:ext cx="3435120" cy="254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459240" cy="2529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539640" y="3722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多项式方程模型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  <a:ea typeface="华文新魏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835280" y="3860640"/>
            <a:ext cx="626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)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0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11280" y="4365720"/>
            <a:ext cx="6769080" cy="21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另一种多项式方程的表达形式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令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上式线性化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经济学中的边际成本曲线、平均成本曲线与左图相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6127200" y="5013360"/>
            <a:ext cx="1969560" cy="370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注意：拟合时不要丢了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2:10:19Z</dcterms:created>
  <dc:creator>JUJUMAO</dc:creator>
  <dc:description/>
  <dc:language>en-US</dc:language>
  <cp:lastModifiedBy>HP</cp:lastModifiedBy>
  <dcterms:modified xsi:type="dcterms:W3CDTF">2015-05-27T22:20:04Z</dcterms:modified>
  <cp:revision>195</cp:revision>
  <dc:subject/>
  <dc:title>幻灯片 1</dc:title>
</cp:coreProperties>
</file>