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7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6B8-95B0-41E1-BFAB-1ACA3238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042-62DC-4A9D-984D-6CB5CE2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AD6-FF76-460C-A18C-C74C1C8A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853-056F-431E-B48E-C9748FDF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68E-163B-4B33-ABDC-5581886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6AB-A706-435E-9E1B-4C8DDA64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7FB-08BA-4722-9AC3-C218E147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B9A-BAAE-4668-9087-DB84FFB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20B-A7D6-44A3-AAEB-76C9559D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42A-4D23-4182-9F68-67B3194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891-5ED3-4494-927F-96ADCD3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909-430D-4698-A138-35E5832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A8B8-B911-48FF-9185-68C55FD0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46240" y="1403280"/>
            <a:ext cx="6940440" cy="417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20840" y="43488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02320" cy="4929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50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214880" y="3500280"/>
            <a:ext cx="2028600" cy="157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6357960" y="3429000"/>
            <a:ext cx="2190600" cy="1690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5880" y="214200"/>
            <a:ext cx="7286400" cy="6396120"/>
          </a:xfrm>
          <a:prstGeom prst="rect">
            <a:avLst/>
          </a:prstGeom>
          <a:ln w="0">
            <a:noFill/>
          </a:ln>
        </p:spPr>
      </p:pic>
      <p:sp>
        <p:nvSpPr>
          <p:cNvPr id="74" name="矩形 6"/>
          <p:cNvSpPr/>
          <p:nvPr/>
        </p:nvSpPr>
        <p:spPr>
          <a:xfrm>
            <a:off x="2071800" y="1857240"/>
            <a:ext cx="857160" cy="714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286000" y="2643120"/>
            <a:ext cx="857160" cy="714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2643120" y="3429000"/>
            <a:ext cx="857160" cy="7142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18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273800" cy="2765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468360" y="3213000"/>
          <a:ext cx="3843360" cy="28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213000"/>
                    <a:ext cx="384336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8"/>
          <p:cNvSpPr/>
          <p:nvPr/>
        </p:nvSpPr>
        <p:spPr>
          <a:xfrm>
            <a:off x="5800320" y="6165720"/>
            <a:ext cx="12355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ews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403280" y="6165000"/>
            <a:ext cx="15732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ews 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4643280" y="3213000"/>
            <a:ext cx="3600720" cy="2908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6659640" y="3722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4868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429000" cy="258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286160" y="2214720"/>
            <a:ext cx="3519720" cy="264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449600" y="1906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571760" y="5002920"/>
            <a:ext cx="6286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im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-199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im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1-199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475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1640" cy="5905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432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02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89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345440" cy="636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600720" cy="261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6875640" y="393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345440" cy="5834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75640" cy="5510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0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969840" y="1653120"/>
            <a:ext cx="577800" cy="375156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楷体"/>
              </a:rPr>
              <a:t>当代计量经济模型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546200" y="24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154764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6"/>
          <p:cNvSpPr/>
          <p:nvPr/>
        </p:nvSpPr>
        <p:spPr>
          <a:xfrm>
            <a:off x="1547640" y="623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6408720" cy="6557760"/>
          </a:xfrm>
          <a:prstGeom prst="rect">
            <a:avLst/>
          </a:prstGeom>
          <a:ln w="0">
            <a:noFill/>
          </a:ln>
        </p:spPr>
      </p:pic>
      <p:sp>
        <p:nvSpPr>
          <p:cNvPr id="117" name="椭圆 9"/>
          <p:cNvSpPr/>
          <p:nvPr/>
        </p:nvSpPr>
        <p:spPr>
          <a:xfrm>
            <a:off x="5580000" y="4076640"/>
            <a:ext cx="28796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8"/>
          <p:cNvSpPr/>
          <p:nvPr/>
        </p:nvSpPr>
        <p:spPr>
          <a:xfrm>
            <a:off x="5508720" y="333360"/>
            <a:ext cx="28796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"/>
          <p:cNvSpPr/>
          <p:nvPr/>
        </p:nvSpPr>
        <p:spPr>
          <a:xfrm>
            <a:off x="3851280" y="333360"/>
            <a:ext cx="12254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132680" y="6268680"/>
            <a:ext cx="1396800" cy="45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章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09760" y="160200"/>
            <a:ext cx="7949880" cy="64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3168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3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结束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58120" cy="4792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4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60400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358120" cy="5430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5072040" y="214200"/>
            <a:ext cx="357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50920" y="1978200"/>
            <a:ext cx="2881080" cy="225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952720" cy="227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940360" y="1916280"/>
            <a:ext cx="3024360" cy="2492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440" y="27061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8569440" cy="707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468360" y="5950080"/>
            <a:ext cx="7920000" cy="40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611280" y="333360"/>
            <a:ext cx="4608360" cy="139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7"/>
          <a:stretch/>
        </p:blipFill>
        <p:spPr>
          <a:xfrm>
            <a:off x="785880" y="5300640"/>
            <a:ext cx="8034120" cy="345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" descr=""/>
          <p:cNvPicPr/>
          <p:nvPr/>
        </p:nvPicPr>
        <p:blipFill>
          <a:blip r:embed="rId1"/>
          <a:stretch/>
        </p:blipFill>
        <p:spPr>
          <a:xfrm>
            <a:off x="5286240" y="21420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5510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704000" cy="542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416800" cy="3000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6659640" y="53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35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1:55:52Z</dcterms:created>
  <dc:creator>user</dc:creator>
  <dc:description/>
  <dc:language>en-US</dc:language>
  <cp:lastModifiedBy>HP</cp:lastModifiedBy>
  <dcterms:modified xsi:type="dcterms:W3CDTF">2015-05-28T04:22:56Z</dcterms:modified>
  <cp:revision>42</cp:revision>
  <dc:subject/>
  <dc:title>幻灯片 1</dc:title>
</cp:coreProperties>
</file>