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6.wmf" ContentType="image/x-wmf"/>
  <Override PartName="/ppt/media/image6.wmf" ContentType="image/x-wmf"/>
  <Override PartName="/ppt/media/image32.png" ContentType="image/png"/>
  <Override PartName="/ppt/media/image2.png" ContentType="image/png"/>
  <Override PartName="/ppt/media/image53.png" ContentType="image/png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27.wmf" ContentType="image/x-wmf"/>
  <Override PartName="/ppt/media/image19.wmf" ContentType="image/x-wmf"/>
  <Override PartName="/ppt/media/image60.png" ContentType="image/png"/>
  <Override PartName="/ppt/media/image18.png" ContentType="image/png"/>
  <Override PartName="/ppt/media/image21.wmf" ContentType="image/x-wmf"/>
  <Override PartName="/ppt/media/image24.wmf" ContentType="image/x-wmf"/>
  <Override PartName="/ppt/media/image25.wmf" ContentType="image/x-wmf"/>
  <Override PartName="/ppt/media/image23.wmf" ContentType="image/x-wmf"/>
  <Override PartName="/ppt/media/image37.png" ContentType="image/png"/>
  <Override PartName="/ppt/media/image22.wmf" ContentType="image/x-wmf"/>
  <Override PartName="/ppt/media/image20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58.png" ContentType="image/png"/>
  <Override PartName="/ppt/media/image3.wmf" ContentType="image/x-wmf"/>
  <Override PartName="/ppt/media/image26.wmf" ContentType="image/x-wmf"/>
  <Override PartName="/ppt/media/image11.wmf" ContentType="image/x-wmf"/>
  <Override PartName="/ppt/media/image50.png" ContentType="image/png"/>
  <Override PartName="/ppt/media/image8.wmf" ContentType="image/x-wmf"/>
  <Override PartName="/ppt/media/image40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12.wmf" ContentType="image/x-wmf"/>
  <Override PartName="/ppt/media/image49.wmf" ContentType="image/x-wmf"/>
  <Override PartName="/ppt/media/image51.png" ContentType="image/png"/>
  <Override PartName="/ppt/media/image30.wmf" ContentType="image/x-wmf"/>
  <Override PartName="/ppt/media/image33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47.png" ContentType="image/png"/>
  <Override PartName="/ppt/media/image48.png" ContentType="image/png"/>
  <Override PartName="/ppt/media/image54.wmf" ContentType="image/x-wmf"/>
  <Override PartName="/ppt/media/image55.wmf" ContentType="image/x-wmf"/>
  <Override PartName="/ppt/media/image56.wmf" ContentType="image/x-wmf"/>
  <Override PartName="/ppt/media/image14.wmf" ContentType="image/x-wmf"/>
  <Override PartName="/ppt/media/image57.png" ContentType="image/png"/>
  <Override PartName="/ppt/media/image59.png" ContentType="image/png"/>
  <Override PartName="/ppt/media/image4.wmf" ContentType="image/x-wm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26D-2400-4AB0-84D6-70088C2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F50-DE64-4A56-BE32-ED0502F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DFB-B7C7-4DF0-9E21-0D81BF7C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B0B-4D17-4AA7-8C69-FA89DA1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12B-242C-418A-9067-4AB82154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A2F-3D3B-4A12-B797-0409719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AA0-624B-4BE4-8359-9EB4BC0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10D-00AD-4BBD-B39A-DD86C91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836-4A35-433F-B2D0-3D11FAC6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83B-86C7-441E-9BB1-EEA7EB1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8C5-7836-4D15-BDB0-89CD00B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EC2-4607-4D14-86F2-454B2A4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40C-1AAD-43D6-913A-D745BA46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415880" y="1197000"/>
            <a:ext cx="61214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156360" y="9018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42920" y="4039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5.4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345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012000" y="469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539640" y="2595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5.4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0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0" y="15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44960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826920" y="4755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5.4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异方差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8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433400" y="3272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11280" y="4039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5.4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异方差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0908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012000" y="469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2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826920" y="3758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5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的修正方法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LS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12000" y="601344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2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"/>
          <p:cNvPicPr/>
          <p:nvPr/>
        </p:nvPicPr>
        <p:blipFill>
          <a:blip r:embed="rId1"/>
          <a:stretch/>
        </p:blipFill>
        <p:spPr>
          <a:xfrm>
            <a:off x="539640" y="1278000"/>
            <a:ext cx="8244000" cy="4599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8"/>
          <p:cNvSpPr/>
          <p:nvPr/>
        </p:nvSpPr>
        <p:spPr>
          <a:xfrm>
            <a:off x="7020000" y="403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讲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6227640" y="10238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2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44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468360" y="333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5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的修正方法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LS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"/>
          <p:cNvPicPr/>
          <p:nvPr/>
        </p:nvPicPr>
        <p:blipFill>
          <a:blip r:embed="rId1"/>
          <a:stretch/>
        </p:blipFill>
        <p:spPr>
          <a:xfrm>
            <a:off x="719280" y="1330200"/>
            <a:ext cx="7704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372360" y="1044720"/>
            <a:ext cx="25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2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468360" y="333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5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的修正方法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LS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5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6"/>
          <p:cNvSpPr/>
          <p:nvPr/>
        </p:nvSpPr>
        <p:spPr>
          <a:xfrm>
            <a:off x="468360" y="333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5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的修正方法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LS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250920" y="11959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利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ej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验结果消除异方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0647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080" y="3277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755640" y="1051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通过对数据取对数消除异方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0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2951280" cy="209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9" descr=""/>
          <p:cNvPicPr/>
          <p:nvPr/>
        </p:nvPicPr>
        <p:blipFill>
          <a:blip r:embed="rId2"/>
          <a:stretch/>
        </p:blipFill>
        <p:spPr>
          <a:xfrm>
            <a:off x="4714920" y="1700280"/>
            <a:ext cx="2952720" cy="214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8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2736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7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2808360" cy="20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1"/>
          <p:cNvSpPr/>
          <p:nvPr/>
        </p:nvSpPr>
        <p:spPr>
          <a:xfrm>
            <a:off x="0" y="-30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2"/>
          <p:cNvSpPr/>
          <p:nvPr/>
        </p:nvSpPr>
        <p:spPr>
          <a:xfrm>
            <a:off x="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"/>
          <p:cNvSpPr/>
          <p:nvPr/>
        </p:nvSpPr>
        <p:spPr>
          <a:xfrm>
            <a:off x="1403280" y="6092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中国进出口贸易额差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3-199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     对数的中国进出口贸易额之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5"/>
          <p:cNvSpPr/>
          <p:nvPr/>
        </p:nvSpPr>
        <p:spPr>
          <a:xfrm>
            <a:off x="1187280" y="333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5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的修正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11280" y="332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5.1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个人储蓄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与可支配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收入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5113440" cy="3498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0" y="14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449600" y="338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2"/>
          <a:stretch/>
        </p:blipFill>
        <p:spPr>
          <a:xfrm>
            <a:off x="5580000" y="1231920"/>
            <a:ext cx="3240000" cy="24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3"/>
          <a:stretch/>
        </p:blipFill>
        <p:spPr>
          <a:xfrm>
            <a:off x="5745240" y="3789360"/>
            <a:ext cx="3074760" cy="2298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684360" y="1125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课本第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25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, File:li-5-1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4"/>
          <a:stretch/>
        </p:blipFill>
        <p:spPr>
          <a:xfrm>
            <a:off x="826920" y="5516640"/>
            <a:ext cx="4448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8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24000" y="187920"/>
            <a:ext cx="7489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5.1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个人储蓄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与可支配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收入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课本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395280" y="177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ldfeld-Quandt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5940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7358040" y="1000080"/>
            <a:ext cx="86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3" descr=""/>
          <p:cNvPicPr/>
          <p:nvPr/>
        </p:nvPicPr>
        <p:blipFill>
          <a:blip r:embed="rId1"/>
          <a:stretch/>
        </p:blipFill>
        <p:spPr>
          <a:xfrm>
            <a:off x="3929040" y="857160"/>
            <a:ext cx="3429000" cy="258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7128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417560" y="3287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319640" cy="27478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0"/>
          <p:cNvSpPr/>
          <p:nvPr/>
        </p:nvSpPr>
        <p:spPr>
          <a:xfrm>
            <a:off x="5364000" y="2637000"/>
            <a:ext cx="1295640" cy="433080"/>
          </a:xfrm>
          <a:prstGeom prst="wedgeRectCallout">
            <a:avLst>
              <a:gd name="adj1" fmla="val -118259"/>
              <a:gd name="adj2" fmla="val 5402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点击此处</a:t>
            </a:r>
            <a:r>
              <a:rPr b="1" lang="zh-CN" sz="1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43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5003640" y="3551400"/>
            <a:ext cx="1704960" cy="31906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0"/>
          <p:cNvSpPr/>
          <p:nvPr/>
        </p:nvSpPr>
        <p:spPr>
          <a:xfrm>
            <a:off x="3564000" y="4149720"/>
            <a:ext cx="1295280" cy="433440"/>
          </a:xfrm>
          <a:prstGeom prst="wedgeRectCallout">
            <a:avLst>
              <a:gd name="adj1" fmla="val -3226"/>
              <a:gd name="adj2" fmla="val 504657"/>
            </a:avLst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点击此处</a:t>
            </a:r>
            <a:r>
              <a:rPr b="1" lang="zh-CN" sz="1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755640" y="18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ite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7020000" y="263700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7020000" y="414972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7020000" y="486900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8"/>
          <p:cNvSpPr/>
          <p:nvPr/>
        </p:nvSpPr>
        <p:spPr>
          <a:xfrm>
            <a:off x="179280" y="3429000"/>
            <a:ext cx="8748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箭头连接符 20"/>
          <p:cNvCxnSpPr/>
          <p:nvPr/>
        </p:nvCxnSpPr>
        <p:spPr>
          <a:xfrm flipV="1">
            <a:off x="4284360" y="4723560"/>
            <a:ext cx="935640" cy="180108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lg" type="arrow" w="sm"/>
          </a:ln>
        </p:spPr>
      </p:cxnSp>
      <p:sp>
        <p:nvSpPr>
          <p:cNvPr id="184" name="Rectangle 16"/>
          <p:cNvSpPr/>
          <p:nvPr/>
        </p:nvSpPr>
        <p:spPr>
          <a:xfrm>
            <a:off x="4859280" y="844560"/>
            <a:ext cx="40338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ite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检验的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wes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操作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回归式窗口中点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键，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Diagnostics/Heteroskedasticity Tes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。在打开的对话窗中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7034040" y="562464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6156360" y="551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440" y="3320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50920" y="373680"/>
            <a:ext cx="7489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5.1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个人储蓄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与可支配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收入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本第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327640" cy="5203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7"/>
          <p:cNvSpPr/>
          <p:nvPr/>
        </p:nvSpPr>
        <p:spPr>
          <a:xfrm>
            <a:off x="5003640" y="981000"/>
            <a:ext cx="2881440" cy="503280"/>
          </a:xfrm>
          <a:prstGeom prst="wedgeRectCallout">
            <a:avLst>
              <a:gd name="adj1" fmla="val -109620"/>
              <a:gd name="adj2" fmla="val 13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检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4572000" y="2781360"/>
            <a:ext cx="2376360" cy="503280"/>
          </a:xfrm>
          <a:prstGeom prst="wedgeRectCallout">
            <a:avLst>
              <a:gd name="adj1" fmla="val -113773"/>
              <a:gd name="adj2" fmla="val 240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检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6732720" y="414972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12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14367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4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1847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327640" cy="3662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6084720" y="5571000"/>
            <a:ext cx="2592720" cy="88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（不讲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pearman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等级相关系数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3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526248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14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540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5184720" cy="1431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20"/>
          <p:cNvSpPr/>
          <p:nvPr/>
        </p:nvSpPr>
        <p:spPr>
          <a:xfrm>
            <a:off x="6084720" y="549360"/>
            <a:ext cx="1295640" cy="433440"/>
          </a:xfrm>
          <a:prstGeom prst="wedgeRectCallout">
            <a:avLst>
              <a:gd name="adj1" fmla="val -118259"/>
              <a:gd name="adj2" fmla="val 54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点击此处</a:t>
            </a:r>
            <a:r>
              <a:rPr b="1" lang="zh-CN" sz="1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1" descr=""/>
          <p:cNvPicPr/>
          <p:nvPr/>
        </p:nvPicPr>
        <p:blipFill>
          <a:blip r:embed="rId2"/>
          <a:stretch/>
        </p:blipFill>
        <p:spPr>
          <a:xfrm>
            <a:off x="2771640" y="2349360"/>
            <a:ext cx="5185080" cy="38260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22"/>
          <p:cNvSpPr/>
          <p:nvPr/>
        </p:nvSpPr>
        <p:spPr>
          <a:xfrm>
            <a:off x="5435640" y="3860640"/>
            <a:ext cx="1368360" cy="432000"/>
          </a:xfrm>
          <a:prstGeom prst="wedgeRectCallout">
            <a:avLst>
              <a:gd name="adj1" fmla="val -115199"/>
              <a:gd name="adj2" fmla="val 7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填入权数</a:t>
            </a:r>
            <a:r>
              <a:rPr b="1" lang="zh-CN" sz="1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1547640" y="3357720"/>
            <a:ext cx="790920" cy="431640"/>
          </a:xfrm>
          <a:prstGeom prst="wedgeRectCallout">
            <a:avLst>
              <a:gd name="adj1" fmla="val 167870"/>
              <a:gd name="adj2" fmla="val 108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挑勾</a:t>
            </a:r>
            <a:r>
              <a:rPr b="1" lang="zh-CN" sz="1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539640" y="426240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9"/>
          <p:cNvSpPr/>
          <p:nvPr/>
        </p:nvSpPr>
        <p:spPr>
          <a:xfrm>
            <a:off x="550800" y="498312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3384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4795920" cy="21607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0"/>
          <p:cNvSpPr/>
          <p:nvPr/>
        </p:nvSpPr>
        <p:spPr>
          <a:xfrm>
            <a:off x="6084720" y="404640"/>
            <a:ext cx="1295640" cy="433440"/>
          </a:xfrm>
          <a:prstGeom prst="wedgeRectCallout">
            <a:avLst>
              <a:gd name="adj1" fmla="val -118347"/>
              <a:gd name="adj2" fmla="val 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点击此处</a:t>
            </a:r>
            <a:r>
              <a:rPr b="1" lang="zh-CN" sz="1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4824360" cy="387828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2"/>
          <p:cNvSpPr/>
          <p:nvPr/>
        </p:nvSpPr>
        <p:spPr>
          <a:xfrm>
            <a:off x="6372360" y="4292640"/>
            <a:ext cx="1368360" cy="431640"/>
          </a:xfrm>
          <a:prstGeom prst="wedgeRectCallout">
            <a:avLst>
              <a:gd name="adj1" fmla="val -115199"/>
              <a:gd name="adj2" fmla="val 7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填入权数</a:t>
            </a:r>
            <a:r>
              <a:rPr b="1" lang="zh-CN" sz="1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2"/>
          <p:cNvSpPr/>
          <p:nvPr/>
        </p:nvSpPr>
        <p:spPr>
          <a:xfrm>
            <a:off x="6156360" y="2924280"/>
            <a:ext cx="1511280" cy="431640"/>
          </a:xfrm>
          <a:prstGeom prst="wedgeRectCallout">
            <a:avLst>
              <a:gd name="adj1" fmla="val -102625"/>
              <a:gd name="adj2" fmla="val 319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标准差倒数</a:t>
            </a:r>
            <a:r>
              <a:rPr b="1" lang="zh-CN" sz="1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1692360" y="2924280"/>
            <a:ext cx="1584360" cy="459720"/>
          </a:xfrm>
          <a:prstGeom prst="rect">
            <a:avLst/>
          </a:prstGeom>
          <a:solidFill>
            <a:srgbClr val="a6a6a6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287800" cy="1368360"/>
          </a:xfrm>
          <a:prstGeom prst="rect">
            <a:avLst/>
          </a:prstGeom>
          <a:ln w="0">
            <a:noFill/>
          </a:ln>
        </p:spPr>
      </p:pic>
      <p:cxnSp>
        <p:nvCxnSpPr>
          <p:cNvPr id="231" name="直接箭头连接符 11"/>
          <p:cNvCxnSpPr/>
          <p:nvPr/>
        </p:nvCxnSpPr>
        <p:spPr>
          <a:xfrm flipH="1">
            <a:off x="3058920" y="4580280"/>
            <a:ext cx="1513440" cy="5770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lg" type="arrow" w="med"/>
          </a:ln>
        </p:spPr>
      </p:cxnSp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9280" y="692280"/>
            <a:ext cx="3384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417560" y="3287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611280" y="188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5.1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个人储蓄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与可支配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收入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400720" cy="4335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4"/>
          <p:cNvSpPr/>
          <p:nvPr/>
        </p:nvSpPr>
        <p:spPr>
          <a:xfrm>
            <a:off x="1619280" y="76572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权估计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L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ew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输出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6012000" y="1268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3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615636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ile:li-5-1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468360" y="5516640"/>
            <a:ext cx="8380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632720" cy="6484680"/>
          </a:xfrm>
          <a:prstGeom prst="rect">
            <a:avLst/>
          </a:prstGeom>
          <a:ln w="0">
            <a:noFill/>
          </a:ln>
        </p:spPr>
      </p:pic>
      <p:sp>
        <p:nvSpPr>
          <p:cNvPr id="243" name="矩形 4"/>
          <p:cNvSpPr/>
          <p:nvPr/>
        </p:nvSpPr>
        <p:spPr>
          <a:xfrm>
            <a:off x="900000" y="1268280"/>
            <a:ext cx="6696360" cy="41767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518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 异方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651640" y="4797360"/>
            <a:ext cx="1728720" cy="1008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:li-5-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:hete0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file:hete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1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4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79280" y="3448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华文新魏"/>
              </a:rPr>
              <a:t>对于截面数据一定要先按解释变量排序才有可能观察到异方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68360" y="981000"/>
            <a:ext cx="81374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案例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中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省市自治区农作物种植业产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亿元）和农作物播种面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万亩）数据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:hete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te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研究二者之间的关系。得估计的线性模型如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-5.6610 + 0.0123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-0.6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12.4)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85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3600360" cy="2694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384720" cy="2522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0" y="14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4433400" y="33058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324000" y="1334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残差图中看不到异方差（左图）。原因是没有把数据按解释变量排序。数据排序并估计后得到的残差图明显存在异方差（右图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313080" cy="2516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3240000" cy="24764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34280" y="3296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2920" y="119664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章结束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9640" y="34524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5.1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300720" y="3060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119700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方差假定：模型的假定条件⑴ 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个对角矩阵，且主对角线上的元素都是常数且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E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 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311280" cy="2382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2"/>
          <p:cNvGraphicFramePr/>
          <p:nvPr/>
        </p:nvGraphicFramePr>
        <p:xfrm>
          <a:off x="4211640" y="3789360"/>
          <a:ext cx="3097080" cy="22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3789360"/>
                    <a:ext cx="309708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1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924360" y="2133720"/>
                <a:ext cx="22035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/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9"/>
          <p:cNvSpPr/>
          <p:nvPr/>
        </p:nvSpPr>
        <p:spPr>
          <a:xfrm>
            <a:off x="6227640" y="21258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971640" y="3628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5.1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异方差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2737080" cy="20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649600" cy="2008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"/>
          <p:cNvPicPr/>
          <p:nvPr/>
        </p:nvPicPr>
        <p:blipFill>
          <a:blip r:embed="rId3"/>
          <a:stretch/>
        </p:blipFill>
        <p:spPr>
          <a:xfrm>
            <a:off x="477720" y="1260360"/>
            <a:ext cx="8136000" cy="246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2735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39640" y="404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来源与后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227640" y="59421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24000" y="1320480"/>
            <a:ext cx="8424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异方差来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序列数据和截面数据中都有可能存在异方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济时间序列中的异方差常为递增型异方差。金融时间序列中的异方差常表现为自回归条件异方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3600360" cy="26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743280" cy="261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0" y="15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465440" y="3291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714240" y="3585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2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异方差来源与后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7104240" cy="435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286240" y="357120"/>
            <a:ext cx="3048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971640" y="259560"/>
            <a:ext cx="44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5.4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116000" y="1123200"/>
            <a:ext cx="5256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性分析异方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宏观经济变量容易出现异方差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散点图做初步判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残差图做初步判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3382920" cy="245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384720" cy="2436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44960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835280" y="5733720"/>
            <a:ext cx="56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散点图                                                               残差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940360" y="9730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1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9640" y="3452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5.4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新魏"/>
              </a:rPr>
              <a:t>异方差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95280" y="1268280"/>
            <a:ext cx="84247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Goldfeld-Quand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具有同方差，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具有递增型异方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把原样本分成两个子样本。具体方法是把成对（组）的观测值按解释变量顺序排列，略去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处于中心位置的观测值（通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取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余下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观测值自然分成容量相等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/ 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的两个子样本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3743280" cy="271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3600720" cy="2671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0" y="168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417560" y="3339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2:30:38Z</dcterms:modified>
  <cp:revision>215</cp:revision>
  <dc:subject/>
  <dc:title>幻灯片 1</dc:title>
</cp:coreProperties>
</file>